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9C0-00CD-4D13-A18D-C23942716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1FCF-30AF-4E7D-B278-F2C15995F40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08EE-44B2-4BB8-B0A2-05BBCCF67E2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E509-533B-48D2-9977-FC9B7F9E1BC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E27E-876F-41E6-8112-3F6188A2808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8244-07E3-4FF9-A691-77C5B02F732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414E-47C7-4D98-9021-81D361B75AA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416-6EF2-4B39-9B96-9E702263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983-F27E-41B6-AE74-215CD89D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0F9-8A2E-4DEF-BDDD-6A8F0B7B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99F-6257-4D4F-B2DE-90134D4B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D3D8-9107-4AFD-95CC-63048425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C885-B251-42F3-B701-DECD7AB8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22C8-9B69-48BA-81D0-23A7157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7016-6ECA-4B5A-AD67-6DCD1FD2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B5BE-2355-4CC5-8DCA-2D93F42D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F982-EF12-4C56-9655-D5F63BC5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F91A-2DC8-469D-AFEE-0A98FAD8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CB2-1DA4-4AAC-99E9-841EF33F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0559-09C9-459E-A7E9-6C7C4C3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A90C-4BF7-49DB-A649-31944D9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4533-5F85-45AF-8FA5-EFEA5336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ABF5-5505-4282-9F45-5162921D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EEAF-943B-4F7A-8889-A87F09C4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189-E9AF-4EE7-A033-C177BDB4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DDE-5CE8-4EED-8650-B388F0A1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52C-31FD-45B4-8130-19B8F4DD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E7E-090D-4D3B-AE7A-138C12CC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526-8E48-40A6-8D19-AFE4EE6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CDA-B896-4866-A2D2-C4ADD29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8D9-AFE4-403D-A10E-3AD4586A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>
                  <a:gd name="textAreaLeft" fmla="*/ 360 w 192240"/>
                  <a:gd name="textAreaRight" fmla="*/ 192960 w 192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1550-A995-4F7F-95DD-09216A697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EB5D-291A-49DB-BD82-2B0E891EC3A0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en.wikipedia.org/wiki/File:Abraham_maslow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umanistic Personality Theo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 are a “genetic blueprint, to which substance is added as life progresses”     ~Carl Rog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umanistic Theo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Emphasizes: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sitive motivation toward higher levels of function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given reasonable life conditions people will develop in desirable dire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otential for growth and chan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day rather than the p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There is more to human existence than dealing with hidden conflicts (Anti-Freu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rl Rog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86200" y="16002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sonality develops in service to positive go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veryone has innate capacities, capabilities, and potentia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*Goal of life: become the best version of whatever each of us is capable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1" name="Picture 7" descr="rogers"/>
          <p:cNvPicPr/>
          <p:nvPr/>
        </p:nvPicPr>
        <p:blipFill>
          <a:blip r:embed="rId3"/>
          <a:stretch/>
        </p:blipFill>
        <p:spPr>
          <a:xfrm>
            <a:off x="838080" y="2666880"/>
            <a:ext cx="2667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gers’ Ide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ctualizing Tendency: biological push toward fulfill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lf-Actualizing Tendency: drive of humans to fulfill their self-concepts or images they have formed for themselv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If you think you are intelligent you will strive to live up to that im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t’s learn more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What makes a person “fully functioning”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Fully functioning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—an individual whose self-concept closely resembles his or her inborn capacities or potential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Unconditional positive regar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—full acceptance and love of another person regardless of that person’s behavior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Conditional Positive Regar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—acceptance and love that are extended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only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when a person behaves in certain ways and fulfills certain conditions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do you think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are some pros and cons to Humanistic Personality Theories? (difference between unconditional positive regard and conditional positive regar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Abraham Maslow—</a:t>
            </a:r>
            <a:br>
              <a:rPr sz="4400"/>
            </a:br>
            <a:r>
              <a:rPr b="0" lang="en-US" sz="4400" spc="-1" strike="noStrike" u="sng">
                <a:solidFill>
                  <a:srgbClr val="660066"/>
                </a:solidFill>
                <a:uFillTx/>
                <a:latin typeface="Tahoma"/>
              </a:rPr>
              <a:t>                Hierarchy of Needs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9" name="Picture 4" descr="http://marvinhimel.com/blog/wp-content/uploads/2009/10/Constitutional-Rights-And-Maslows-Hierarchy-Of-Needs.jpg"/>
          <p:cNvPicPr/>
          <p:nvPr/>
        </p:nvPicPr>
        <p:blipFill>
          <a:blip r:embed="rId1"/>
          <a:stretch/>
        </p:blipFill>
        <p:spPr>
          <a:xfrm>
            <a:off x="228600" y="2133720"/>
            <a:ext cx="5334120" cy="449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http://upload.wikimedia.org/wikipedia/commons/thumb/3/3f/Abraham_maslow.jpg/225px-Abraham_masl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666880"/>
            <a:ext cx="2752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4T12:54:03Z</dcterms:created>
  <dc:creator>amiller</dc:creator>
  <dc:description/>
  <dc:language>en-US</dc:language>
  <cp:lastModifiedBy>John Hampton</cp:lastModifiedBy>
  <dcterms:modified xsi:type="dcterms:W3CDTF">2011-11-10T12:02:06Z</dcterms:modified>
  <cp:revision>17</cp:revision>
  <dc:subject/>
  <dc:title>Humanistic Personality Theory</dc:title>
</cp:coreProperties>
</file>